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12B7-A8FC-4458-ABD4-35F24562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103B-275C-444D-9A30-FCADB56B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54A-61D1-4DF2-8737-982407F6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C06-95DF-4288-A59D-6FF4084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F9FAF-B042-4570-8F5D-C300320F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B7A30-E69C-4971-BAB4-7363D526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DE2C7-763F-4F7F-B75A-9FFF136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4BA97-79F7-4D26-8CEF-CFB7205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8D456-7FB8-4FC9-882A-6787D45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98E24-2619-4672-A77A-862589C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D53DB-D543-46D0-97BB-3C979C7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24C2E-1E01-44FC-BFF0-252EC9D4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68909-6105-4586-8B87-AE7ED7ED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24E-23D1-4EAA-961E-6436B7D1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477-3418-4F45-9231-E38DAE91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489B-06CE-4700-8B2F-8A4CB91D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3E37-941F-410F-892B-B7A1B70E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15D2-EB08-4456-81D7-A81EE029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7536-CBA9-4B8B-8515-DA510C82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C4F4-E6D7-41F5-A2C3-55C5C5D4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3396-8A70-42FA-82E0-AF9BA6F9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8C42-E54F-4EEE-BED3-DEA2DB3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638-9BDB-4B0F-B026-7331FD86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0084-4181-46A4-B52D-78C7CB3B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AD88-E2E4-4D6F-8FCD-6BC0C39A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114C-D3FD-4FA4-AF9B-4DF987C7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7E3-DBD3-41EA-8932-D379FE92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2F7-C065-4454-8CF6-7E745B27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B270-290E-4BCF-8B2E-8281B757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4806-75A3-4F42-8B90-8395B69C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C9FA-8CA9-4626-A18B-4C39DA28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C0AD-768A-4D99-ABEE-95965935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AF6D-7E4F-4E4D-82A1-4F2EE73D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1AF-5423-426C-B680-EE0C2D89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0249-9952-44BE-A078-1B555301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D792-0B95-4644-97C3-5D4C4955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C008-07A9-4E4A-B92E-C497BC31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6090-1BFF-4073-B632-35A87278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4918-FA70-4741-AEC3-55E2D505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B1B1-B8D8-4520-8AF2-A73FB7B2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6D1B-D284-43CF-8BD6-4021E899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466E-9489-4EBE-94AD-0CC8BEE5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5EA79-09B3-4D4D-A841-1A063047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BC65-2FC1-4394-8D5A-6B233D0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9A9-C06F-4074-A7CC-B6736ED4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8F9E-B695-4CE9-842C-627C34AC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35CDB-B358-4B49-BD45-61E8824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0137-7E0F-49A5-84A2-AF04FC14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DD2A-956D-4226-9479-7D903B0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FCFE-C23C-4307-B762-4E32698E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64A7-1D4E-46AA-ABE4-0500086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D9DE-9E63-4FB5-8388-0D5AF186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98C2-340D-4402-862C-BBD252F3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3C7F-2408-4259-BF9A-88C8C3C4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86F4F-D1F9-4E4B-884E-148E4F3F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579-F9F8-4CE4-BC17-610B2D0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2D689-A4AE-4440-A7DF-E6238CCF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1AC3-D1E6-45B1-8139-957459E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B2AC-DDCF-49CB-BE33-C3BA734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6631-AF30-41B9-A4EF-D702BC0C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5F9BA-F62F-4E28-A4FF-67E133EE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8950-9F27-4EB0-BAA2-9B3225A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B71A-A0A8-4EEE-A982-4A4A7136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E8FD0-C6BD-46F0-A115-2947563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DF63-C2C6-41FA-9222-820CF1B4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13763-904B-4777-A03F-5ADADC94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5AB-028D-40EE-BDEA-C9383772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773F-CB57-4BE4-B202-AAFF9E64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85797-A929-45DD-90A2-BAD5D37E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13AD-4870-4884-996D-E70739CF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206C-C0FF-459F-B202-7AEF3F53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B7D0-3D9D-40EC-B299-1AD8602E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284EF-A203-42DA-9BF8-0E1F4670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60BA-38B5-4EA1-966E-413E55D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D5A3-8B63-44D2-A30C-1D51C613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68B6-4045-4270-9612-4AB30A6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90A7-1C0E-416E-A33F-DD65E63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043-7615-4FB6-9E18-2B400F8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DF2F2-AA25-4ACC-9AA4-7F08A384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BD594-0649-4DFA-8816-8D30FCD4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B126-B006-4312-8290-DAD802AE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62DB-9B56-41C2-8737-380640E4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CE5B0-4F41-4F10-9A02-872C9F53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54CF-EA3E-44C8-A8B3-C99B04F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2358-5C0C-48C0-8088-B7929930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3BF8B-BA38-4133-A28B-BB692C3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018FE-E612-4AD6-964B-423C82F4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E9BB3-73ED-4EED-BEC8-53D3575E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E2A-F8B6-4CFD-9AAD-A2B55365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69BA0-CD63-49B1-B0C6-E86A74B2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B0162-AB75-45C0-BEB1-094940BD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1348-4A69-4EDD-946E-6112EEDA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81EFF-700E-4A00-AA48-EA7292DC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FB8F-DF17-4262-9141-11E3357F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D3C9A-BD6B-447D-BC55-20A56D07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88BF5-7B43-4566-A2E0-1E75FDF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B180-CB88-4D34-A5E3-301781D5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B65D3-D986-4E6A-95EE-FC4B4FB4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B1C3-FF35-4F0C-A505-23E317D4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78F-3CEF-4D82-8B4A-BBF5EE7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02153-FD24-4C12-A7A5-68E4A053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DCC72-C700-4C8D-98B7-DB94ABD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A482B-B035-4FF5-928E-EFF395B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F3CF7-D615-48D3-BC3A-DF9E54B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4A4D9-D549-4571-80F9-4C661F19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C8D53-5B1D-4E93-B0FD-FB6887BE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E4BF4-F97B-4AA3-802C-63F27127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50E3-18F0-4960-AA00-B6E1D9CA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BF5EB-95DD-4FBF-BFA8-9B6B24DB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2A639-D413-4A6A-8DF4-FB450CB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1716-C0CF-4A91-8519-D94D0DFCFA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5EBF-8C9A-4F5B-BCD6-01804E1D0B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2E6-3DDD-449B-B99A-6717B23FE9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7830-0362-4199-957E-D8EB65AC44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AA0B-461B-443C-B1F3-9916290B3A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F6A2-CDB3-4CCF-8076-2A79894974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5233-C402-40C2-9ACA-4277CF7810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4545-A4E1-4642-B26B-A6AC2ED035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B3F3-FCB1-42B5-8328-86DC414268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in Ide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use and Effec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WL Char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mpare and Contra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eb6115"/>
                </a:solidFill>
                <a:uFillTx/>
                <a:latin typeface="Lucida Sans Unicode"/>
              </a:rPr>
              <a:t>Sett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equ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ealism &amp; Fantas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uthor’s Purpos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raw Conclu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mmariz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eb6115"/>
                </a:solidFill>
                <a:uFillTx/>
                <a:latin typeface="Lucida Sans Unicode"/>
              </a:rPr>
              <a:t>Charact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eb6115"/>
                </a:solidFill>
                <a:uFillTx/>
                <a:latin typeface="Lucida Sans Unicode"/>
              </a:rPr>
              <a:t>Generaliz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Diagram 1" descr=""/>
          <p:cNvPicPr/>
          <p:nvPr/>
        </p:nvPicPr>
        <p:blipFill>
          <a:blip r:embed="rId1"/>
          <a:stretch/>
        </p:blipFill>
        <p:spPr>
          <a:xfrm>
            <a:off x="201600" y="907920"/>
            <a:ext cx="8674200" cy="53467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228600" y="228600"/>
            <a:ext cx="872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Conclusions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-is a d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at makes sense based on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lus what you alread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Content Placeholder 3" descr=""/>
          <p:cNvPicPr/>
          <p:nvPr/>
        </p:nvPicPr>
        <p:blipFill>
          <a:blip r:embed="rId1"/>
          <a:stretch/>
        </p:blipFill>
        <p:spPr>
          <a:xfrm>
            <a:off x="212760" y="1450800"/>
            <a:ext cx="8596440" cy="4589640"/>
          </a:xfrm>
          <a:prstGeom prst="rect">
            <a:avLst/>
          </a:prstGeom>
          <a:ln w="0">
            <a:noFill/>
          </a:ln>
        </p:spPr>
      </p:pic>
      <p:pic>
        <p:nvPicPr>
          <p:cNvPr id="451" name="Title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7812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4"/>
          <p:cNvSpPr/>
          <p:nvPr/>
        </p:nvSpPr>
        <p:spPr>
          <a:xfrm>
            <a:off x="3124080" y="1523880"/>
            <a:ext cx="467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3232080" y="3276720"/>
            <a:ext cx="44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6"/>
          <p:cNvSpPr/>
          <p:nvPr/>
        </p:nvSpPr>
        <p:spPr>
          <a:xfrm>
            <a:off x="3233160" y="4952880"/>
            <a:ext cx="46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Charact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57" name="Down Arrow 3"/>
          <p:cNvSpPr/>
          <p:nvPr/>
        </p:nvSpPr>
        <p:spPr>
          <a:xfrm>
            <a:off x="3505320" y="2057400"/>
            <a:ext cx="484200" cy="30481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Down Arrow 4"/>
          <p:cNvSpPr/>
          <p:nvPr/>
        </p:nvSpPr>
        <p:spPr>
          <a:xfrm>
            <a:off x="5486400" y="2057400"/>
            <a:ext cx="484200" cy="228600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bear1.jpg"/>
          <p:cNvPicPr/>
          <p:nvPr/>
        </p:nvPicPr>
        <p:blipFill>
          <a:blip r:embed="rId2"/>
          <a:stretch/>
        </p:blipFill>
        <p:spPr>
          <a:xfrm>
            <a:off x="3048120" y="525780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family.jpg"/>
          <p:cNvPicPr/>
          <p:nvPr/>
        </p:nvPicPr>
        <p:blipFill>
          <a:blip r:embed="rId3"/>
          <a:stretch/>
        </p:blipFill>
        <p:spPr>
          <a:xfrm>
            <a:off x="5257800" y="4572000"/>
            <a:ext cx="1076400" cy="1619280"/>
          </a:xfrm>
          <a:prstGeom prst="rect">
            <a:avLst/>
          </a:prstGeom>
          <a:ln w="0">
            <a:noFill/>
          </a:ln>
        </p:spPr>
      </p:pic>
      <p:sp>
        <p:nvSpPr>
          <p:cNvPr id="461" name="TextBox 7"/>
          <p:cNvSpPr/>
          <p:nvPr/>
        </p:nvSpPr>
        <p:spPr>
          <a:xfrm>
            <a:off x="6483960" y="52578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9"/>
          <p:cNvSpPr/>
          <p:nvPr/>
        </p:nvSpPr>
        <p:spPr>
          <a:xfrm>
            <a:off x="1835280" y="5638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All birds have wing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  <p:pic>
        <p:nvPicPr>
          <p:cNvPr id="465" name="Diagram 3" descr=""/>
          <p:cNvPicPr/>
          <p:nvPr/>
        </p:nvPicPr>
        <p:blipFill>
          <a:blip r:embed="rId2"/>
          <a:stretch/>
        </p:blipFill>
        <p:spPr>
          <a:xfrm>
            <a:off x="895320" y="1878120"/>
            <a:ext cx="74437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Diagram 2" descr=""/>
          <p:cNvPicPr/>
          <p:nvPr/>
        </p:nvPicPr>
        <p:blipFill>
          <a:blip r:embed="rId1"/>
          <a:stretch/>
        </p:blipFill>
        <p:spPr>
          <a:xfrm>
            <a:off x="-30240" y="225360"/>
            <a:ext cx="8826480" cy="63342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3"/>
          <p:cNvSpPr/>
          <p:nvPr/>
        </p:nvSpPr>
        <p:spPr>
          <a:xfrm>
            <a:off x="640080" y="380880"/>
            <a:ext cx="830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3200" spc="-1" strike="noStrike">
                <a:solidFill>
                  <a:srgbClr val="0000cc"/>
                </a:solidFill>
                <a:latin typeface="Aharoni"/>
                <a:ea typeface="Aharoni"/>
              </a:rPr>
              <a:t>Main Idea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s the most important id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n a selection or para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964800" y="5105520"/>
            <a:ext cx="762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etails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re small pieces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at tell about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152280" y="1600200"/>
          <a:ext cx="8839440" cy="502920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What I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badi MT Condensed Extra Bold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What I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badi MT Condensed Extra Bold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ant to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What I </a:t>
                      </a: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badi MT Condensed Extra Bold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badi MT Condensed Extra Bold"/>
                        </a:rPr>
                        <a:t>ear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Diagram 1" descr=""/>
          <p:cNvPicPr/>
          <p:nvPr/>
        </p:nvPicPr>
        <p:blipFill>
          <a:blip r:embed="rId1"/>
          <a:stretch/>
        </p:blipFill>
        <p:spPr>
          <a:xfrm>
            <a:off x="731880" y="987480"/>
            <a:ext cx="7656480" cy="56512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2"/>
          <p:cNvSpPr/>
          <p:nvPr/>
        </p:nvSpPr>
        <p:spPr>
          <a:xfrm>
            <a:off x="15480" y="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Diagram 4" descr=""/>
          <p:cNvPicPr/>
          <p:nvPr/>
        </p:nvPicPr>
        <p:blipFill>
          <a:blip r:embed="rId1"/>
          <a:stretch/>
        </p:blipFill>
        <p:spPr>
          <a:xfrm>
            <a:off x="225360" y="1390680"/>
            <a:ext cx="8620200" cy="5168880"/>
          </a:xfrm>
          <a:prstGeom prst="rect">
            <a:avLst/>
          </a:prstGeom>
          <a:ln w="0">
            <a:noFill/>
          </a:ln>
        </p:spPr>
      </p:pic>
      <p:sp>
        <p:nvSpPr>
          <p:cNvPr id="434" name="TextBox 5"/>
          <p:cNvSpPr/>
          <p:nvPr/>
        </p:nvSpPr>
        <p:spPr>
          <a:xfrm>
            <a:off x="4195440" y="2819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1622520" y="380880"/>
            <a:ext cx="646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5160"/>
                </a:solidFill>
                <a:latin typeface="Arial"/>
              </a:rPr>
              <a:t>Compare and Contr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51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hings are alike           How thing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Up-Down Arrow 7"/>
          <p:cNvSpPr/>
          <p:nvPr/>
        </p:nvSpPr>
        <p:spPr>
          <a:xfrm>
            <a:off x="2819520" y="1066680"/>
            <a:ext cx="152280" cy="304920"/>
          </a:xfrm>
          <a:prstGeom prst="upDownArrow">
            <a:avLst>
              <a:gd name="adj1" fmla="val 50000"/>
              <a:gd name="adj2" fmla="val 5005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Up-Down Arrow 8"/>
          <p:cNvSpPr/>
          <p:nvPr/>
        </p:nvSpPr>
        <p:spPr>
          <a:xfrm>
            <a:off x="6095880" y="990720"/>
            <a:ext cx="152640" cy="304560"/>
          </a:xfrm>
          <a:prstGeom prst="upDownArrow">
            <a:avLst>
              <a:gd name="adj1" fmla="val 50000"/>
              <a:gd name="adj2" fmla="val 4988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439" name="Title 2" descr=""/>
          <p:cNvPicPr/>
          <p:nvPr/>
        </p:nvPicPr>
        <p:blipFill>
          <a:blip r:embed="rId2"/>
          <a:stretch/>
        </p:blipFill>
        <p:spPr>
          <a:xfrm>
            <a:off x="225360" y="165240"/>
            <a:ext cx="8521920" cy="12618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IMG_0254.JPG"/>
          <p:cNvPicPr/>
          <p:nvPr/>
        </p:nvPicPr>
        <p:blipFill>
          <a:blip r:embed="rId3"/>
          <a:stretch/>
        </p:blipFill>
        <p:spPr>
          <a:xfrm>
            <a:off x="2666880" y="99072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C:\Users\shilburn\AppData\Local\Microsoft\Windows\Temporary Internet Files\Content.IE5\VEZZCMN3\MCj04242320000[1].wmf"/>
          <p:cNvPicPr/>
          <p:nvPr/>
        </p:nvPicPr>
        <p:blipFill>
          <a:blip r:embed="rId4"/>
          <a:stretch/>
        </p:blipFill>
        <p:spPr>
          <a:xfrm>
            <a:off x="2743200" y="5181480"/>
            <a:ext cx="15238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Diagram 4" descr=""/>
          <p:cNvPicPr/>
          <p:nvPr/>
        </p:nvPicPr>
        <p:blipFill>
          <a:blip r:embed="rId1"/>
          <a:stretch/>
        </p:blipFill>
        <p:spPr>
          <a:xfrm>
            <a:off x="963720" y="1378080"/>
            <a:ext cx="7759440" cy="51559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52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quence= The order in which events happen in a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380880" y="1676520"/>
          <a:ext cx="8305920" cy="387504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at happen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uld this happe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his story is ________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2"/>
          <p:cNvSpPr/>
          <p:nvPr/>
        </p:nvSpPr>
        <p:spPr>
          <a:xfrm>
            <a:off x="152280" y="152280"/>
            <a:ext cx="8991720" cy="1800360"/>
          </a:xfrm>
          <a:prstGeom prst="rect">
            <a:avLst/>
          </a:prstGeom>
          <a:noFill/>
          <a:ln w="9360">
            <a:solidFill>
              <a:srgbClr val="1057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Realism and Fan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5766"/>
                </a:solidFill>
                <a:uFillTx/>
                <a:latin typeface="Lucida Sans Unicode"/>
              </a:rPr>
              <a:t>Realisti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ells about something that could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05766"/>
                </a:solidFill>
                <a:uFillTx/>
                <a:latin typeface="Lucida Sans Unicode"/>
              </a:rPr>
              <a:t>Fantasy-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s make-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457200" y="2133720"/>
          <a:ext cx="8229600" cy="4495680"/>
        </p:xfrm>
        <a:graphic>
          <a:graphicData uri="http://schemas.openxmlformats.org/drawingml/2006/table">
            <a:tbl>
              <a:tblPr/>
              <a:tblGrid>
                <a:gridCol w="1676520"/>
                <a:gridCol w="3200400"/>
                <a:gridCol w="335268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y do you think s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47" name="Title 2" descr=""/>
          <p:cNvPicPr/>
          <p:nvPr/>
        </p:nvPicPr>
        <p:blipFill>
          <a:blip r:embed="rId1"/>
          <a:stretch/>
        </p:blipFill>
        <p:spPr>
          <a:xfrm>
            <a:off x="225360" y="92160"/>
            <a:ext cx="86374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14:07Z</dcterms:created>
  <dc:creator>user</dc:creator>
  <dc:description/>
  <dc:language>en-US</dc:language>
  <cp:lastModifiedBy> </cp:lastModifiedBy>
  <dcterms:modified xsi:type="dcterms:W3CDTF">2009-12-07T16:14:40Z</dcterms:modified>
  <cp:revision>22</cp:revision>
  <dc:subject/>
  <dc:title>Slide 1</dc:title>
</cp:coreProperties>
</file>